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6B6-7D95-4CDB-9B6A-703972B7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91B5-78C7-4582-9A8F-D4164B90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E092-5405-43C0-BF46-0E4C1096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207B-0EC4-4AA3-941F-31023589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BFB-3E5A-433F-8E23-D0F35DF1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683-AF27-4D67-9C76-5673F7F9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9F4-C7B1-4D74-8791-E73649EF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12F-2902-4868-8BF9-83427870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DE2-3ADB-4CCE-9A39-B368C823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9F2-E755-4E4D-9F3C-D6BAE268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A011-E90E-47CC-8E52-EDC422A5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AFF-D507-4DE1-A4C9-2B7A942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1DA6-0009-4737-B2E8-0E732C5C2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057400"/>
            <a:ext cx="7772400" cy="419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4320" y="4648320"/>
            <a:ext cx="93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4686480"/>
            <a:ext cx="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02912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83000" y="4029120"/>
            <a:ext cx="874800" cy="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94640" y="4029120"/>
            <a:ext cx="120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2057400"/>
            <a:ext cx="0" cy="19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392880" y="4686480"/>
            <a:ext cx="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92880" y="46864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 rot="5400000">
            <a:off x="4600800" y="2104200"/>
            <a:ext cx="900360" cy="654120"/>
          </a:xfrm>
          <a:prstGeom prst="rect">
            <a:avLst/>
          </a:prstGeom>
          <a:ln w="0">
            <a:noFill/>
          </a:ln>
        </p:spPr>
      </p:pic>
      <p:sp>
        <p:nvSpPr>
          <p:cNvPr id="53" name="sink1"/>
          <p:cNvSpPr/>
          <p:nvPr/>
        </p:nvSpPr>
        <p:spPr>
          <a:xfrm rot="5400000">
            <a:off x="4737960" y="3414600"/>
            <a:ext cx="549360" cy="577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oilet"/>
          <p:cNvSpPr/>
          <p:nvPr/>
        </p:nvSpPr>
        <p:spPr>
          <a:xfrm>
            <a:off x="5562720" y="2057400"/>
            <a:ext cx="628560" cy="512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057400"/>
            <a:ext cx="0" cy="197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402912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oor"/>
          <p:cNvSpPr/>
          <p:nvPr/>
        </p:nvSpPr>
        <p:spPr>
          <a:xfrm rot="13500000">
            <a:off x="7734240" y="4152960"/>
            <a:ext cx="533520" cy="457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81529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05740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5438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 the rooms with the vocabulary listed. Esszimmer, Wohnzimmer, Badezimmer, Kinderzimmer, Kü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ny SIX of the following in the correct room and label them:  das Bett, die Toilette, das Sofa, der Sessel, der Stuhl, das Radio, die Kommode, der Schrank, der Teppich, der Bank, die Uhr, das Fahrrad, die Badewa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01:17Z</dcterms:created>
  <dc:creator>udsd</dc:creator>
  <dc:description/>
  <dc:language>en-US</dc:language>
  <cp:lastModifiedBy>udsd</cp:lastModifiedBy>
  <dcterms:modified xsi:type="dcterms:W3CDTF">2009-05-21T14:08:58Z</dcterms:modified>
  <cp:revision>4</cp:revision>
  <dc:subject/>
  <dc:title>Slide 1</dc:title>
</cp:coreProperties>
</file>